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017-15F2-4352-856A-C99CBD8EDF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nchronriemen arbeiten nach dem Prinzip der formschlüssigen Kraftübertragung und benötigen daher keine große Vorspann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unnötig hohe Vorspannung vermindert die Lebensdauer des Antriebes, erhöht die Lagerbelastung, den Verschleiß der Zähne und begünstigt Laufgeräus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zu geringe Straffung kann dazu führen, daß die Riemenzähne nicht einwandfrei in die Scheibenverzahnung eingreifen und bei hoher       Belastung sogar übersprin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nchronriemen muss gespannt sein, damit er nicht überspringt sobald er sich Ausdehnt durch Wärme u.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ssiert dieses besteht nicht mehr die Möglichkeit einer Synchronitä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Riemen würden anfangen zu gleiten bei Überbeanspruc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üflastme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- Handmeßgerät TRU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kW / 3.000U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enabstand ist in vielen Fällen vorge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Sinnvolle Grenzwerte sind einzuh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bei Synchronscheiben sind die Bordscheiben maßge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i zu große Abstände können Schwingungen ent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r Riemenzähnezahlen nach Hersteller Angab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B 16-19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= Spann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Y= Auflege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 sich im eingriff befindlichen Zäh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rund unvermeidlicher Teilungsfehler können max. nur 12 Zähne als tragend angesehen werden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her wir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uf ganze Zahlen abru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spez.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Nach TB 16-20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tragende Kraft ist abhängig von Umwelteinflüsse, Ölig, Warm, Kalt us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ung + Fliehkräfte im Betrieb = weniger Belastung auf den Wellen bzw. Lag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exakte Berechnung der Wellenbelastung ist für den praktischen Anwendungsfall somit kaum 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Errechneten We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trieb im allg. oder über Dimensioniert (Keil oder Synchronriem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teigt die Errechnete Riemenzugkraft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die max.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z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Werte nicht, so muss wieder von Vorne des Ablaufplans begonn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l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ände müssen berücksichtigt werde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federt / nicht Gefed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nrolle Feder belastet Ja / N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ra Ansprechen wegen Ihrem Zahnriemenriss beim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kurvenförmige HTD® (High Torque Drive) Verzahnung verbessert die innere Spannungsverteilung erheblich und ermöglicht eine höhere Übertragungsleistung und eine längere Lebensdauer verglichen mit den klassischen Trapezsynchronrie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6B1-E715-42E5-8225-4D156574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311-938C-4082-9932-1F9970CE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D30-5312-4264-B03B-00A4CDD7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D62-74F3-4723-BAC2-98614F04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1D0-CACC-4DAF-96E8-9A7DD639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3E53-93A7-4454-A697-8026F6DE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874-BAD1-4AA2-B846-ADFCBBE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FBA6-74EE-4941-906F-E9AFE1EC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D0BD-832C-47E0-8955-EE3823D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69A-2DA1-4E29-B121-0C8AF17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5A9E-01A3-4A11-9DC6-127285E6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C93-5C1F-4D41-BC54-CF68C778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D4E2-55DC-4664-9D48-2182B62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47EB-8357-4531-A544-C13DB55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18CF-A977-49B0-BB7B-F3954E9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B748-50B4-49B1-B922-0843EB3D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971-F541-43D8-AF8B-DB3CCDE3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96F-F7D3-48B1-A72B-66B4873A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EB3-0CE9-48D9-8596-B95CC611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261-FACB-4894-A3B2-B5A10FE3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CAF-DE22-459B-9969-A2D86277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1D5-16AE-47CC-8FAB-7F6B60C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9AA-2896-4AC5-BBA8-F51E443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592-FF94-42A1-A989-31199B3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2F6-DD70-437A-A3BD-E33AD3E6B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DFD8-A29A-4C08-B684-BD6A93187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tlantadrives.com/" TargetMode="External"/><Relationship Id="rId3" Type="http://schemas.openxmlformats.org/officeDocument/2006/relationships/hyperlink" Target="http://www.bs-wiki.de/mediawiki/index.php/Riementriebe_formschl&#252;ssig" TargetMode="External"/><Relationship Id="rId4" Type="http://schemas.openxmlformats.org/officeDocument/2006/relationships/hyperlink" Target="http://www.bs-wiki.de/mediawiki/index.php/Riementriebe" TargetMode="External"/><Relationship Id="rId5" Type="http://schemas.openxmlformats.org/officeDocument/2006/relationships/hyperlink" Target="http://www.bs-wiki.de/mediawiki/index.php/Zahnriemen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Formschlüssige Riementrieb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5897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wicklung und Konstruk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exander Bold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608200" y="2940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753080" cy="28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Bauformen von Synchronriem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403848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 einfacher Synchronriementrieb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= 1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 einfacher Synchronriementrie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≠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381480" cy="23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743-FEF2-4F0A-AC1C-C31965B05D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Aufbau der Synchronriemenscheib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3106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rkstoff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sseisen, Stahlguss, Stahl, Aluminiumlegierungen oder Kunststoff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Bordscheiben sind in der Regel aus verzinktem Stah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Auswahl des Werkstoffes ist abhängig von den Einsatzbedingunge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C50-FDFA-4660-AF9E-FFFFDBC825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Riemenspann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138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in Synchronriemen benötigt keine hohe Vorspannu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Vorspannung kann über die Verstellung des Achsabstandes eingestel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über eine Spannrol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mit dem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messgerät TRUMME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850840" cy="21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960720" cy="1879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356000" y="3500280"/>
            <a:ext cx="15955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4F9-8E46-4E53-A1F2-8ECFED4A88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Flach- und Keilriemen (kraftschlüssig)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136000" cy="429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9440" y="414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9440" y="465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944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F43-C8E2-4DDD-A94F-E547085F91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Zahnrad- und Kett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064720" cy="435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08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3080" y="47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944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5CD-D9B9-4F2E-A633-BD32BAE87D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56000" y="-360"/>
            <a:ext cx="478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27f4c"/>
                </a:solidFill>
                <a:latin typeface="Tahoma"/>
              </a:rPr>
              <a:t>Antriebs Wahl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91120" cy="6381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06028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auf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 S.5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 S.2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266-E6B9-4D03-B1BB-1907AB3CDB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ung des Riemenprofils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275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TB 16-1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1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03760" y="1268280"/>
            <a:ext cx="35910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16A-5A74-423D-94C3-6D5E03D71B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r Scheibenzähnezah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42920" y="4076640"/>
                <a:ext cx="2592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91652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8EB-EFBE-4F40-90CC-DD608BCE95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s vorläuf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´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–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547640" y="5445000"/>
                <a:ext cx="5834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62888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1B8-7227-43AA-A1CA-FFC586981B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Tahoma"/>
              </a:rPr>
              <a:t>Ermittlung der Riemenzähnezahl,  Riemenlänge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4535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dk; ddg; Ld´; zr´; Ld;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 – 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09-2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TB 16-19d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98816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47F-7FB1-41B9-8FA0-6D355DB76D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Inhaltsverzeichni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ktion und Wirk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staltungsgrundsät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uar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gleich zu anderen Antrieb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rechn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B40-3CFD-4B96-A36B-1A1A087399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s endgült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; x;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0-2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0380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CC5-B5EE-432E-ADCE-731927B2E2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r erforderlichen Riemenbreite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89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; Psp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 TB 16-20-b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–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601-603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388040" y="4941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= Riemenbr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EDF-F3ED-4AB6-BA3F-3DB5A3A756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827f4c"/>
                </a:solidFill>
                <a:latin typeface="Tahoma"/>
              </a:rPr>
              <a:t>Kontrolle von:  v, fB, Ft, Fw0</a:t>
            </a:r>
            <a:r>
              <a:rPr b="0" lang="de-DE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683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1-2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880600" y="3933720"/>
            <a:ext cx="2408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= Riemengeschwindigk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B= Biegefreque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t= Umfangsk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w0= Überschläg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ellenbelas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31F-CD09-459E-B1B6-05344F4529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Werte zulässig?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Bsp.: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 Synchronriemen 10-T5-5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ynchronriemen 10-T5-55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b=10 mm Breite, T5 Riemenprofil mit p = 5 mm Teilung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990 mm Richtlänge Ld = Bestellläng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b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DC7-FC41-43AE-8D80-AE6ABB25AA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Quell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Lehrbuch und Tabellenbuch; Vieweg Verlag, 19. Auflage, 2009, ISBN 978-3-8348-0689-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Formelsammlung; Vieweg Verlag, 9. Auflage, 2008, ISBN 978-3-8348-0534-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abellenbuch Metall; Europa Lehrmittel Verlag, 44. Auflage, 2008, ISBN 978-3-8085-1724-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2"/>
              </a:rPr>
              <a:t>http://www.atlantadrive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3"/>
              </a:rPr>
              <a:t>http://www.bs-wiki.de/mediawiki/index.php/Riementriebe_formschl%C3%BCssi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4"/>
              </a:rPr>
              <a:t>http://www.bs-wiki.de/mediawiki/index.php/Riementrieb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5"/>
              </a:rPr>
              <a:t>http://www.bs-wiki.de/mediawiki/index.php/Zahnriem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7B3-2960-4012-94A1-898B8E338E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Einleit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chlüssige Riementriebe, besser bekannt al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hn- bzw. Synchronriementrieb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egegnet man häufig im Beruf und im Alltag bei Werkzeugmaschinen, Autos, Fahrräde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iehe dazu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Red Al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w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unterschiedliche Bauarten und Größ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erbeanspruchung kann zu schwerwiegenden Folgen führ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p.: Zahnriemenriss beim Verbrennungsmo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691-9FE4-4578-9F97-DFA31B2E3D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Ziele: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s versteht man unter formschlüssigen Riementrieb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orteile / Nachte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wendung / Einsatzgebiet für den Synchronriem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hl des richtigen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Auswah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erechn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ensionierung des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7DA-130E-4C71-8A9D-0916AFD433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Besonderheit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 Synchrone Üb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hezu wartungsfre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chlüssige Drehmomentübertra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riementriebe finden Verwendu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Feinwerkantrieben, Haushaltsmaschinen,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kzeugmaschinen, Textilmaschinen oder schw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umaschi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7B6-3812-4EEA-82C0-40C959EAAA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werkstoff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gelemente aus Stahl oder Glasfas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iemenkörper aus Gumm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.B. Neopren oder Elastom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in Riemenkörper eingebund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zum dauerhaften Schutz von Polyamidgewebe umschlos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6C3-E9D4-45CA-AFF4-8F3BC79EF6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644832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D86-4217-4D1F-9AB5-0291F386D5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Spannungsverteilung im Synchronriem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280" y="429228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) Trapez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) Halbrundprofil- (HTD) 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968720" cy="20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542-4648-43F3-A9B2-E0D96EFAA4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br>
              <a:rPr sz="4400"/>
            </a:br>
            <a:r>
              <a:rPr b="1" lang="en-US" sz="3600" spc="-1" strike="noStrike">
                <a:solidFill>
                  <a:srgbClr val="0a29c4"/>
                </a:solidFill>
                <a:latin typeface="Tahoma"/>
              </a:rPr>
              <a:t>Metrische T-Zahnriemen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67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- Zah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 T5 / T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mm /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sp.: 10-T5-5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änge: 55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: 5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ite: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5184720" cy="15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8E8-0DB9-46D1-87DF-3A66B62DD6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9:06:45Z</dcterms:created>
  <dc:creator>Boldt</dc:creator>
  <dc:description/>
  <dc:language>en-US</dc:language>
  <cp:lastModifiedBy>Boldt</cp:lastModifiedBy>
  <dcterms:modified xsi:type="dcterms:W3CDTF">2010-11-26T13:58:41Z</dcterms:modified>
  <cp:revision>182</cp:revision>
  <dc:subject/>
  <dc:title>Formschlüssige Riementriebe</dc:title>
</cp:coreProperties>
</file>